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2268-895C-41DD-A7AD-E131EE595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8D6A-2549-45CA-AE0A-A51195C01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76BE-E566-49EA-99EB-548393DEF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A7C0-31E8-4D1E-95C1-1273B064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7CF0-0909-40BC-A21B-F50EEC6A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09125-5E02-4F15-B790-DC890E28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F8A76-35DE-49AF-95B2-F10A3CD9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3E2A-1461-49AF-941F-A12778A3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E930-0BB1-4B7E-A1BB-86BD04DB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9207-F1E1-445A-B035-74783F6F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D519-4C68-493A-B9F6-A6E75254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413E-C804-427A-B19A-6687187F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55D3-A752-42B9-97CF-8CD6B8E6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8A48-AFF2-4E85-B209-6F76E123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D6A79-6C6D-4DCC-9C77-6F57EABE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F830-419A-4137-A5FF-64313D9B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5743-89BD-439F-8E0C-F02E27CA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999E-6A9A-454F-8231-D98CD1B6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2B4E-E0D0-4D1B-A82B-6D031AE0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339D-4A06-459E-A4EB-A02EF76F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6DC0-0E1F-46E1-AF9B-71D3A27E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F5A7-8ACA-4706-9607-1478ADA0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EC208-92F2-491B-94AF-F2257CA5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D211-ECCE-4017-8D97-C2FBA040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8811B-26E5-4A89-95EF-C4A67CD0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5035A-7431-484E-B81D-8EA66C0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18907-8288-4A6A-9692-495B0E0B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CFE5-31E4-4D67-AD13-5E1484E4DA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7D41-9FD8-4CDA-AB7E-80A150621DB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2D0A-EF86-406A-979F-7B8D2C461D1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5018-A900-44C2-846C-AD48516748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0331-80D1-4249-BAF3-E6A071137C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Verdana"/>
              </a:rPr>
              <a:t>Checklist d’ori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roduction à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vue technique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gnes de conduite clefs du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ème de gestion de la qualité a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criptif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te de débu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SPONSABL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16DC-7646-4BEB-B604-67FD6A49D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1066680"/>
            <a:ext cx="80010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99"/>
                </a:solidFill>
                <a:latin typeface="Verdana"/>
              </a:rPr>
              <a:t>L’évaluation des performances peut plus mettre en lumière les opportunités d’amélioration pour le laboratoire que pour l’employ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Cj04260720000[1]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BA68-9381-425C-BC3C-77F75EB2BF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alifications et descriptif de po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219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« La direction du laboratoire devrait avoir des descriptifs de  poste qui définissent les qualifications et les fonctions de tout le personnel. 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O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2120" y="2819520"/>
            <a:ext cx="4038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éducation requ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ertificat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iplôme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expé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mpétences requ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a hié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es responsabil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ô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fo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pons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structures 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762120" y="2438280"/>
            <a:ext cx="40384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ptif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CD32-A972-4FCC-A02B-E0F315DBDC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 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ha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81080"/>
          <a:ext cx="8229600" cy="45435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304920"/>
                <a:gridCol w="533520"/>
                <a:gridCol w="609480"/>
                <a:gridCol w="29718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 technic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édur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ément de procé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u le manuel de procéd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du 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quipement dispon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de travail pro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paration ré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correc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opportuné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0360-A707-44BD-A360-C92F460FDF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</a:t>
            </a:r>
            <a:r>
              <a:rPr b="0" lang="fr-FR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(b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752480"/>
          <a:ext cx="8229600" cy="445464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82520"/>
                <a:gridCol w="731880"/>
                <a:gridCol w="182520"/>
                <a:gridCol w="655560"/>
                <a:gridCol w="281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mé d’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formation requise pour combler les défaillanc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és recommandé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_____ j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ien éval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98FC-FC99-476A-B6A1-22456E2214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Évaluation des compé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28600" y="1676520"/>
            <a:ext cx="8610480" cy="464796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143000"/>
          <a:ext cx="8610480" cy="510840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447560"/>
                <a:gridCol w="1295640"/>
                <a:gridCol w="1218960"/>
                <a:gridCol w="2590920"/>
              </a:tblGrid>
              <a:tr h="835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e d’évaluation des compé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pital principal – Laboratoire de Microbiolo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â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ation 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des disques trop proches. Ré évaluation dans 14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émocul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ifu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plissage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ée donn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rreurs.  Lire le manuel et ré évaluer dans 10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90E7-9F42-42A7-A20C-1924E89FB6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0880" y="1523880"/>
            <a:ext cx="396252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à l’évaluation des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s des manuels opéra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 des mises à jour du man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rmation sur l’équipem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Verdana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4572000" y="1752480"/>
            <a:ext cx="426708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liée à l’évaluation des 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é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lubs de rev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vues et litté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Form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MCBS00263_0000[1]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20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5DBE-5AE6-4FBD-8993-A20AE68213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E7E1-CDF9-49C7-B0F2-68FB08C9C46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99"/>
                </a:solidFill>
                <a:latin typeface="Verdana"/>
              </a:rPr>
              <a:t>Ressources de 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rsonnel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ité d’assuranc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firmier(èr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ath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des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pidémi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valua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abric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ociétés scientif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ganisations de norm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0010000[1]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BC9F-B38B-4014-8736-79FFC2406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3520" y="1752480"/>
            <a:ext cx="3733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Personnelle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blème de san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uvaise compré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que de/mauvais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81E9-379E-4351-A1CE-6125D9B7A7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ques/géné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 sur lieu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charge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ientation médio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ation insuffis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’évaluation des compé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lexités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bsentes ou pas va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mbiguë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4:47:58Z</dcterms:modified>
  <cp:revision>202</cp:revision>
  <dc:subject/>
  <dc:title>Slide 1</dc:title>
</cp:coreProperties>
</file>